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F86-7974-482D-BC8B-148B7D68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00F-E52D-484A-9FD0-26497755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DBC-D0B9-4D3F-BD34-EFA0DF1C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F7C-33B4-4AC9-A90E-BBF0AE2F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73E-CF07-4CF6-8E56-E0676D47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391-B1EF-4897-89A0-28386D06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FDB-15C6-4101-B9A9-77C0B618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0CE-FD62-4D5E-906F-F9EE2045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736-8151-41EC-BF5A-6C10D099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5C1-168A-4EF0-8CB8-981E89E7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D0A-51BE-4D43-B303-0514DF3B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67D-29EB-4272-AED0-43AE02AB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5676-FEB2-4A76-BDBD-34A20B6DA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3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3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3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"/>
          <p:cNvPicPr/>
          <p:nvPr/>
        </p:nvPicPr>
        <p:blipFill>
          <a:blip r:embed="rId3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3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"/>
          <p:cNvPicPr/>
          <p:nvPr/>
        </p:nvPicPr>
        <p:blipFill>
          <a:blip r:embed="rId4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373800" y="5524560"/>
            <a:ext cx="2401920" cy="1220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444600" y="5905440"/>
            <a:ext cx="289548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-9360" y="2658960"/>
            <a:ext cx="9153360" cy="2616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177840" y="2293920"/>
            <a:ext cx="19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7" descr=""/>
          <p:cNvPicPr/>
          <p:nvPr/>
        </p:nvPicPr>
        <p:blipFill>
          <a:blip r:embed="rId3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4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5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3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12640" y="644040"/>
            <a:ext cx="7678800" cy="20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Vrednotenje izvajanja kohezijske politike OP 2014 – 2020</a:t>
            </a:r>
            <a:br>
              <a:rPr sz="2400"/>
            </a:br>
            <a:br>
              <a:rPr sz="3600"/>
            </a:br>
            <a:r>
              <a:rPr b="1" lang="sl-SI" sz="1600" spc="-1" strike="noStrike">
                <a:solidFill>
                  <a:srgbClr val="2f5597"/>
                </a:solidFill>
                <a:latin typeface="Calibri"/>
              </a:rPr>
              <a:t>OzS, 29.9.2020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579600" y="2854440"/>
            <a:ext cx="79848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ravokotnik 1"/>
          <p:cNvSpPr/>
          <p:nvPr/>
        </p:nvSpPr>
        <p:spPr>
          <a:xfrm>
            <a:off x="787320" y="2917800"/>
            <a:ext cx="73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628560" y="2867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628560" y="2867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10"/>
          <p:cNvSpPr/>
          <p:nvPr/>
        </p:nvSpPr>
        <p:spPr>
          <a:xfrm>
            <a:off x="579600" y="30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oljeZBesedilom 3"/>
          <p:cNvSpPr/>
          <p:nvPr/>
        </p:nvSpPr>
        <p:spPr>
          <a:xfrm>
            <a:off x="907920" y="723960"/>
            <a:ext cx="67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Od zadnjega poročanja na Oz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oljeZBesedilom 4"/>
          <p:cNvSpPr/>
          <p:nvPr/>
        </p:nvSpPr>
        <p:spPr>
          <a:xfrm>
            <a:off x="1018080" y="1608120"/>
            <a:ext cx="45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stopanje od potrjenega nač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ileme z objavo javnega razpi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Menjave ministr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Covi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menjena sestava Oz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oljeZBesedilom 1"/>
          <p:cNvSpPr/>
          <p:nvPr/>
        </p:nvSpPr>
        <p:spPr>
          <a:xfrm>
            <a:off x="1588680" y="938160"/>
            <a:ext cx="47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Nadaljevanje aktivnosti vrednot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oljeZBesedilom 2"/>
          <p:cNvSpPr/>
          <p:nvPr/>
        </p:nvSpPr>
        <p:spPr>
          <a:xfrm>
            <a:off x="1429560" y="2001960"/>
            <a:ext cx="7726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bjava javnega razpisa za dve vrednoten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(Učinkovitost in uspešnost izvajanja specifičnih ciljev „Povečan delež inovacijsko aktivnih podjetij“ in „Povečanj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učinkovitosti rabe energije v javnem sektorju“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otrditev prenovljene Interdisciplinarne skup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Sprememba letnega načrta vrednotenj za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riprava letnega načrta vrednotenj za 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bjava javnega razpisa in izved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9600" y="2854440"/>
            <a:ext cx="7984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 Light"/>
              </a:rPr>
              <a:t>Hvala za pozornost</a:t>
            </a: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rcRect l="18542" t="11954" r="2709" b="82682"/>
          <a:stretch/>
        </p:blipFill>
        <p:spPr>
          <a:xfrm>
            <a:off x="0" y="68400"/>
            <a:ext cx="91440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Vincekovic, Lidija (SI - Ljubljana)</dc:creator>
  <dc:description/>
  <dc:language>en-US</dc:language>
  <cp:lastModifiedBy>Mateja Mahkovec</cp:lastModifiedBy>
  <cp:lastPrinted>2019-12-17T12:58:53Z</cp:lastPrinted>
  <dcterms:modified xsi:type="dcterms:W3CDTF">2020-09-28T05:53:33Z</dcterms:modified>
  <cp:revision>164</cp:revision>
  <dc:subject/>
  <dc:title>PowerPoint Presentation</dc:title>
</cp:coreProperties>
</file>